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E74-CECE-453E-AD87-540ECBDC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B93-6512-457E-96A8-CE9C031C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D0F-75FF-4657-9095-DE7A3DCF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E0A-A6AB-445C-9D0C-334B2487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00A-EEE2-44F7-87F2-44CE85A0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051-6584-437A-AF67-166D5039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063-FE92-4067-B535-E7AA3E5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7E9-2991-4144-88CC-F95C3AED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C0E-7463-4247-9306-517B5B47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5CC-917F-472E-AAED-ED59B991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2BD-300F-41CB-B5BD-5113877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E07-16CB-465C-A8C5-8334C8DB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D9FF-FB61-4AD7-835D-314C20CA58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DFC1-A7F0-451E-A0E8-3AA94175D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76D6-4632-422F-AE35-6E5FB119F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3DD2-8C9A-46B9-9E75-FBB5B08A1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2909-80D0-4843-AD0F-E54A70392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his Workshop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opportunities presented by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sation with mode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priority research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 operation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partnership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AFB3-02F6-43B6-9313-B6F7DC0A2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8:39Z</dcterms:modified>
  <cp:revision>83</cp:revision>
  <dc:subject/>
  <dc:title>PowerPoint Presentation</dc:title>
</cp:coreProperties>
</file>